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907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85600" y="812880"/>
            <a:ext cx="5784840" cy="4006800"/>
          </a:xfrm>
          <a:prstGeom prst="rect">
            <a:avLst/>
          </a:prstGeom>
          <a:solidFill>
            <a:srgbClr val="ffffff">
              <a:alpha val="75000"/>
            </a:srgbClr>
          </a:solidFill>
          <a:ln w="18000">
            <a:solidFill>
              <a:srgbClr val="000000"/>
            </a:solidFill>
            <a:round/>
          </a:ln>
        </p:spPr>
        <p:txBody>
          <a:bodyPr lIns="0" rIns="0" tIns="0" bIns="0" anchor="ctr">
            <a:noAutofit/>
          </a:bodyPr>
          <a:p>
            <a:pPr marL="820800" algn="ctr">
              <a:lnSpc>
                <a:spcPct val="93000"/>
              </a:lnSpc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031CB-CC0B-4AF3-B127-EEA8F897E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952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roits d'accès issus des droits du compte d'accès à la base de données: lecture seule (SELECT), mise à jour (UPDATE), ajout (INSERT). Pas de limitation possible au niveau des lignes des tables (ie. masquer des annotations privé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as d'historique car même si un client le gérait, l'utilisation d'un client ne le gérant pas suffirait à fausser l'historiqu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ccès concurrent: 2 annotateurs modifient la même entrée en même temps, le premier qui enregistrera croira l'avoir fait mais le second écrasera son travai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ompatibilité du client: un utilisateur peut se connecter directement à la base de données et l'altérer “à la main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écurité réseau: oblige l'ouverture de la 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9520" cy="4008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écuriser pour éviter piratage ou mauvaise u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7203-B5A1-42F9-A9A3-A4A4DE22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C8A-0E22-455C-B12E-F79EBF1D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9BEF-CDC2-41C3-9F82-0EEB4527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221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536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221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F26-E6FF-417E-95A2-24F17A5F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360" y="280800"/>
            <a:ext cx="891216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9E93-E323-42F3-85EC-7715AF85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89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21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36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89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21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16E5-0E1C-405A-A9AE-35609DEF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4EF4-67BB-425E-9F94-F2CCA55C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CF8D-4B18-4D69-97E5-0E11A4E9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95360" y="280800"/>
            <a:ext cx="891216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667-550E-486C-A5C5-33A30134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AF2C-CFB1-41DD-8447-54F44C3E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65D3-359A-4A9C-8902-022FF248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8854-5726-41E6-8709-C3FA85E4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5977080"/>
            <a:ext cx="8915040" cy="554760"/>
            <a:chOff x="566640" y="5977080"/>
            <a:chExt cx="8915040" cy="554760"/>
          </a:xfrm>
        </p:grpSpPr>
        <p:grpSp>
          <p:nvGrpSpPr>
            <p:cNvPr id="1" name=""/>
            <p:cNvGrpSpPr/>
            <p:nvPr/>
          </p:nvGrpSpPr>
          <p:grpSpPr>
            <a:xfrm>
              <a:off x="566640" y="5977080"/>
              <a:ext cx="1486440" cy="554760"/>
              <a:chOff x="566640" y="5977080"/>
              <a:chExt cx="1486440" cy="554760"/>
            </a:xfrm>
          </p:grpSpPr>
          <p:sp>
            <p:nvSpPr>
              <p:cNvPr id="2" name=""/>
              <p:cNvSpPr/>
              <p:nvPr/>
            </p:nvSpPr>
            <p:spPr>
              <a:xfrm>
                <a:off x="5666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1614000">
                <a:off x="6368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rot="19452600">
                <a:off x="13449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245800">
                <a:off x="11235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rot="15693000">
                <a:off x="17258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9907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12615000">
                <a:off x="14662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2051640" y="5977080"/>
              <a:ext cx="1486440" cy="554760"/>
              <a:chOff x="2051640" y="5977080"/>
              <a:chExt cx="1486440" cy="554760"/>
            </a:xfrm>
          </p:grpSpPr>
          <p:sp>
            <p:nvSpPr>
              <p:cNvPr id="10" name=""/>
              <p:cNvSpPr/>
              <p:nvPr/>
            </p:nvSpPr>
            <p:spPr>
              <a:xfrm>
                <a:off x="20516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rot="1614000">
                <a:off x="21218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19452600">
                <a:off x="28299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2245800">
                <a:off x="26085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rot="15693000">
                <a:off x="32108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4757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rot="12615000">
                <a:off x="29512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"/>
            <p:cNvGrpSpPr/>
            <p:nvPr/>
          </p:nvGrpSpPr>
          <p:grpSpPr>
            <a:xfrm>
              <a:off x="3538080" y="5977080"/>
              <a:ext cx="1486800" cy="554760"/>
              <a:chOff x="3538080" y="5977080"/>
              <a:chExt cx="1486800" cy="554760"/>
            </a:xfrm>
          </p:grpSpPr>
          <p:sp>
            <p:nvSpPr>
              <p:cNvPr id="18" name=""/>
              <p:cNvSpPr/>
              <p:nvPr/>
            </p:nvSpPr>
            <p:spPr>
              <a:xfrm>
                <a:off x="353808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614000">
                <a:off x="360828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19452600">
                <a:off x="431640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2245800">
                <a:off x="409500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15693000">
                <a:off x="469728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9625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12615000">
                <a:off x="443772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5023440" y="5977080"/>
              <a:ext cx="1486800" cy="554760"/>
              <a:chOff x="5023440" y="5977080"/>
              <a:chExt cx="1486800" cy="554760"/>
            </a:xfrm>
          </p:grpSpPr>
          <p:sp>
            <p:nvSpPr>
              <p:cNvPr id="26" name=""/>
              <p:cNvSpPr/>
              <p:nvPr/>
            </p:nvSpPr>
            <p:spPr>
              <a:xfrm>
                <a:off x="502344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1614000">
                <a:off x="50936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19452600">
                <a:off x="58017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2245800">
                <a:off x="55803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15693000">
                <a:off x="618264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44788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12615000">
                <a:off x="59230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6508440" y="5977080"/>
              <a:ext cx="1486800" cy="554760"/>
              <a:chOff x="6508440" y="5977080"/>
              <a:chExt cx="1486800" cy="554760"/>
            </a:xfrm>
          </p:grpSpPr>
          <p:sp>
            <p:nvSpPr>
              <p:cNvPr id="34" name=""/>
              <p:cNvSpPr/>
              <p:nvPr/>
            </p:nvSpPr>
            <p:spPr>
              <a:xfrm>
                <a:off x="650844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1614000">
                <a:off x="65786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19452600">
                <a:off x="72867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2245800">
                <a:off x="70653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15693000">
                <a:off x="766764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93288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12615000">
                <a:off x="74080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" name=""/>
            <p:cNvGrpSpPr/>
            <p:nvPr/>
          </p:nvGrpSpPr>
          <p:grpSpPr>
            <a:xfrm>
              <a:off x="7995240" y="5977080"/>
              <a:ext cx="1486440" cy="554760"/>
              <a:chOff x="7995240" y="5977080"/>
              <a:chExt cx="1486440" cy="554760"/>
            </a:xfrm>
          </p:grpSpPr>
          <p:sp>
            <p:nvSpPr>
              <p:cNvPr id="42" name=""/>
              <p:cNvSpPr/>
              <p:nvPr/>
            </p:nvSpPr>
            <p:spPr>
              <a:xfrm>
                <a:off x="79952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614000">
                <a:off x="80654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9452600">
                <a:off x="87735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2245800">
                <a:off x="85521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5693000">
                <a:off x="91544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4193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12615000">
                <a:off x="88948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" name=""/>
          <p:cNvSpPr/>
          <p:nvPr/>
        </p:nvSpPr>
        <p:spPr>
          <a:xfrm>
            <a:off x="0" y="0"/>
            <a:ext cx="9906120" cy="6858000"/>
          </a:xfrm>
          <a:custGeom>
            <a:avLst/>
            <a:gdLst/>
            <a:ahLst/>
            <a:rect l="l" t="t" r="r" b="b"/>
            <a:pathLst>
              <a:path w="28001" h="21001">
                <a:moveTo>
                  <a:pt x="0" y="21000"/>
                </a:moveTo>
                <a:cubicBezTo>
                  <a:pt x="0" y="19000"/>
                  <a:pt x="1500" y="8000"/>
                  <a:pt x="7500" y="6000"/>
                </a:cubicBezTo>
                <a:cubicBezTo>
                  <a:pt x="6000" y="6000"/>
                  <a:pt x="5000" y="6000"/>
                  <a:pt x="3000" y="7000"/>
                </a:cubicBezTo>
                <a:cubicBezTo>
                  <a:pt x="4590" y="4835"/>
                  <a:pt x="10120" y="4534"/>
                  <a:pt x="15500" y="4500"/>
                </a:cubicBezTo>
                <a:cubicBezTo>
                  <a:pt x="16037" y="4493"/>
                  <a:pt x="23833" y="4500"/>
                  <a:pt x="28000" y="4500"/>
                </a:cubicBezTo>
                <a:cubicBezTo>
                  <a:pt x="28000" y="3000"/>
                  <a:pt x="28000" y="0"/>
                  <a:pt x="28000" y="0"/>
                </a:cubicBezTo>
                <a:lnTo>
                  <a:pt x="0" y="0"/>
                </a:lnTo>
                <a:lnTo>
                  <a:pt x="0" y="2100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753320" y="0"/>
            <a:ext cx="2152800" cy="1028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60560" cy="1181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Arial"/>
              <a:buChar char="●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Arial"/>
              <a:buChar char="●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495000" y="6369120"/>
            <a:ext cx="23050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2"/>
          </p:nvPr>
        </p:nvSpPr>
        <p:spPr>
          <a:xfrm>
            <a:off x="3387240" y="6369120"/>
            <a:ext cx="31402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3"/>
          </p:nvPr>
        </p:nvSpPr>
        <p:spPr>
          <a:xfrm>
            <a:off x="7102080" y="6369120"/>
            <a:ext cx="230652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fld id="{45E22089-137E-45AA-9C1C-A88B72B5C974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7830"/>
            </a:gs>
            <a:gs pos="100000">
              <a:srgbClr val="0d482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63440"/>
            <a:ext cx="10082160" cy="4081680"/>
          </a:xfrm>
          <a:custGeom>
            <a:avLst/>
            <a:gdLst/>
            <a:ahLst/>
            <a:rect l="l" t="t" r="r" b="b"/>
            <a:pathLst>
              <a:path w="28501" h="12502">
                <a:moveTo>
                  <a:pt x="6500" y="501"/>
                </a:moveTo>
                <a:cubicBezTo>
                  <a:pt x="8500" y="501"/>
                  <a:pt x="10136" y="423"/>
                  <a:pt x="8999" y="2001"/>
                </a:cubicBezTo>
                <a:cubicBezTo>
                  <a:pt x="10275" y="1254"/>
                  <a:pt x="11000" y="4500"/>
                  <a:pt x="13000" y="2001"/>
                </a:cubicBezTo>
                <a:cubicBezTo>
                  <a:pt x="12485" y="4912"/>
                  <a:pt x="16067" y="1005"/>
                  <a:pt x="16000" y="3001"/>
                </a:cubicBezTo>
                <a:cubicBezTo>
                  <a:pt x="18500" y="1501"/>
                  <a:pt x="19000" y="1501"/>
                  <a:pt x="17000" y="1"/>
                </a:cubicBezTo>
                <a:cubicBezTo>
                  <a:pt x="23000" y="1"/>
                  <a:pt x="20000" y="3001"/>
                  <a:pt x="23000" y="1"/>
                </a:cubicBezTo>
                <a:cubicBezTo>
                  <a:pt x="23500" y="3000"/>
                  <a:pt x="25500" y="0"/>
                  <a:pt x="27500" y="2001"/>
                </a:cubicBezTo>
                <a:cubicBezTo>
                  <a:pt x="26000" y="3001"/>
                  <a:pt x="28500" y="5001"/>
                  <a:pt x="27500" y="7501"/>
                </a:cubicBezTo>
                <a:cubicBezTo>
                  <a:pt x="25500" y="4500"/>
                  <a:pt x="25000" y="7501"/>
                  <a:pt x="27500" y="10501"/>
                </a:cubicBezTo>
                <a:cubicBezTo>
                  <a:pt x="26000" y="9000"/>
                  <a:pt x="19500" y="10001"/>
                  <a:pt x="18500" y="11001"/>
                </a:cubicBezTo>
                <a:cubicBezTo>
                  <a:pt x="19000" y="8501"/>
                  <a:pt x="14500" y="9001"/>
                  <a:pt x="10500" y="10501"/>
                </a:cubicBezTo>
                <a:cubicBezTo>
                  <a:pt x="12000" y="8001"/>
                  <a:pt x="6000" y="12501"/>
                  <a:pt x="5000" y="9000"/>
                </a:cubicBezTo>
                <a:cubicBezTo>
                  <a:pt x="3500" y="10501"/>
                  <a:pt x="1000" y="9501"/>
                  <a:pt x="1000" y="8001"/>
                </a:cubicBezTo>
                <a:cubicBezTo>
                  <a:pt x="2000" y="9001"/>
                  <a:pt x="2500" y="7000"/>
                  <a:pt x="1000" y="6001"/>
                </a:cubicBezTo>
                <a:cubicBezTo>
                  <a:pt x="2500" y="5501"/>
                  <a:pt x="0" y="4001"/>
                  <a:pt x="500" y="1001"/>
                </a:cubicBezTo>
                <a:cubicBezTo>
                  <a:pt x="1000" y="3001"/>
                  <a:pt x="2000" y="1000"/>
                  <a:pt x="5000" y="2501"/>
                </a:cubicBezTo>
                <a:cubicBezTo>
                  <a:pt x="3000" y="1"/>
                  <a:pt x="8000" y="2501"/>
                  <a:pt x="6500" y="501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7400" y="-81000"/>
            <a:ext cx="7859880" cy="6122880"/>
          </a:xfrm>
          <a:custGeom>
            <a:avLst/>
            <a:gdLst/>
            <a:ahLst/>
            <a:rect l="l" t="t" r="r" b="b"/>
            <a:pathLst>
              <a:path w="22217" h="18747">
                <a:moveTo>
                  <a:pt x="8816" y="2154"/>
                </a:moveTo>
                <a:cubicBezTo>
                  <a:pt x="11123" y="410"/>
                  <a:pt x="11158" y="1825"/>
                  <a:pt x="10022" y="3404"/>
                </a:cubicBezTo>
                <a:cubicBezTo>
                  <a:pt x="11297" y="2658"/>
                  <a:pt x="11494" y="3157"/>
                  <a:pt x="12492" y="747"/>
                </a:cubicBezTo>
                <a:cubicBezTo>
                  <a:pt x="11977" y="3659"/>
                  <a:pt x="13017" y="998"/>
                  <a:pt x="12950" y="2994"/>
                </a:cubicBezTo>
                <a:cubicBezTo>
                  <a:pt x="14052" y="0"/>
                  <a:pt x="15773" y="3167"/>
                  <a:pt x="14191" y="5659"/>
                </a:cubicBezTo>
                <a:cubicBezTo>
                  <a:pt x="16497" y="3917"/>
                  <a:pt x="16568" y="6745"/>
                  <a:pt x="18702" y="2757"/>
                </a:cubicBezTo>
                <a:cubicBezTo>
                  <a:pt x="19461" y="4921"/>
                  <a:pt x="18290" y="5085"/>
                  <a:pt x="19599" y="5754"/>
                </a:cubicBezTo>
                <a:cubicBezTo>
                  <a:pt x="21734" y="1764"/>
                  <a:pt x="22216" y="7090"/>
                  <a:pt x="20254" y="8501"/>
                </a:cubicBezTo>
                <a:cubicBezTo>
                  <a:pt x="20323" y="6503"/>
                  <a:pt x="18171" y="11747"/>
                  <a:pt x="19670" y="14747"/>
                </a:cubicBezTo>
                <a:cubicBezTo>
                  <a:pt x="18170" y="13246"/>
                  <a:pt x="18248" y="16528"/>
                  <a:pt x="17171" y="17247"/>
                </a:cubicBezTo>
                <a:cubicBezTo>
                  <a:pt x="17171" y="14247"/>
                  <a:pt x="11408" y="17392"/>
                  <a:pt x="9170" y="18746"/>
                </a:cubicBezTo>
                <a:cubicBezTo>
                  <a:pt x="10171" y="16247"/>
                  <a:pt x="5035" y="17826"/>
                  <a:pt x="6170" y="16246"/>
                </a:cubicBezTo>
                <a:cubicBezTo>
                  <a:pt x="4897" y="16993"/>
                  <a:pt x="4136" y="16746"/>
                  <a:pt x="3171" y="15747"/>
                </a:cubicBezTo>
                <a:cubicBezTo>
                  <a:pt x="2551" y="14414"/>
                  <a:pt x="5169" y="12747"/>
                  <a:pt x="3171" y="11746"/>
                </a:cubicBezTo>
                <a:cubicBezTo>
                  <a:pt x="8171" y="8247"/>
                  <a:pt x="0" y="11620"/>
                  <a:pt x="1825" y="9378"/>
                </a:cubicBezTo>
                <a:cubicBezTo>
                  <a:pt x="3203" y="8049"/>
                  <a:pt x="6819" y="6974"/>
                  <a:pt x="7024" y="5811"/>
                </a:cubicBezTo>
                <a:cubicBezTo>
                  <a:pt x="4236" y="7053"/>
                  <a:pt x="8816" y="2154"/>
                  <a:pt x="8816" y="2154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480" y="326880"/>
            <a:ext cx="9375480" cy="6205680"/>
          </a:xfrm>
          <a:custGeom>
            <a:avLst/>
            <a:gdLst/>
            <a:ahLst/>
            <a:rect l="l" t="t" r="r" b="b"/>
            <a:pathLst>
              <a:path w="26501" h="19001">
                <a:moveTo>
                  <a:pt x="10000" y="19000"/>
                </a:moveTo>
                <a:cubicBezTo>
                  <a:pt x="7000" y="18500"/>
                  <a:pt x="8000" y="17000"/>
                  <a:pt x="10000" y="16500"/>
                </a:cubicBezTo>
                <a:cubicBezTo>
                  <a:pt x="8500" y="16000"/>
                  <a:pt x="8500" y="16000"/>
                  <a:pt x="6000" y="17500"/>
                </a:cubicBezTo>
                <a:cubicBezTo>
                  <a:pt x="8500" y="15000"/>
                  <a:pt x="6000" y="15000"/>
                  <a:pt x="7500" y="13000"/>
                </a:cubicBezTo>
                <a:cubicBezTo>
                  <a:pt x="4500" y="15000"/>
                  <a:pt x="6500" y="10000"/>
                  <a:pt x="9500" y="9000"/>
                </a:cubicBezTo>
                <a:cubicBezTo>
                  <a:pt x="6500" y="8500"/>
                  <a:pt x="7000" y="6000"/>
                  <a:pt x="2500" y="8000"/>
                </a:cubicBezTo>
                <a:cubicBezTo>
                  <a:pt x="3500" y="5000"/>
                  <a:pt x="5000" y="5500"/>
                  <a:pt x="4500" y="3500"/>
                </a:cubicBezTo>
                <a:cubicBezTo>
                  <a:pt x="0" y="5500"/>
                  <a:pt x="3500" y="0"/>
                  <a:pt x="6000" y="500"/>
                </a:cubicBezTo>
                <a:cubicBezTo>
                  <a:pt x="4500" y="2500"/>
                  <a:pt x="12500" y="4000"/>
                  <a:pt x="13500" y="2500"/>
                </a:cubicBezTo>
                <a:cubicBezTo>
                  <a:pt x="14000" y="4500"/>
                  <a:pt x="20667" y="667"/>
                  <a:pt x="22000" y="1000"/>
                </a:cubicBezTo>
                <a:cubicBezTo>
                  <a:pt x="21000" y="3000"/>
                  <a:pt x="23833" y="4667"/>
                  <a:pt x="26500" y="5500"/>
                </a:cubicBezTo>
                <a:cubicBezTo>
                  <a:pt x="25667" y="6833"/>
                  <a:pt x="25500" y="9000"/>
                  <a:pt x="23500" y="9500"/>
                </a:cubicBezTo>
                <a:cubicBezTo>
                  <a:pt x="25000" y="10000"/>
                  <a:pt x="25500" y="11500"/>
                  <a:pt x="25500" y="13500"/>
                </a:cubicBezTo>
                <a:cubicBezTo>
                  <a:pt x="25000" y="15500"/>
                  <a:pt x="23000" y="14000"/>
                  <a:pt x="22500" y="15000"/>
                </a:cubicBezTo>
                <a:cubicBezTo>
                  <a:pt x="24500" y="15500"/>
                  <a:pt x="23500" y="18000"/>
                  <a:pt x="20500" y="18500"/>
                </a:cubicBezTo>
                <a:cubicBezTo>
                  <a:pt x="18500" y="18500"/>
                  <a:pt x="15500" y="16000"/>
                  <a:pt x="14500" y="17000"/>
                </a:cubicBezTo>
                <a:cubicBezTo>
                  <a:pt x="17500" y="18500"/>
                  <a:pt x="10000" y="19000"/>
                  <a:pt x="10000" y="19000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53880" y="3755880"/>
            <a:ext cx="1497240" cy="166716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714840" y="115920"/>
            <a:ext cx="2152440" cy="102708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  <p:sp>
        <p:nvSpPr>
          <p:cNvPr id="98" name="PlaceHolder 1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marL="216000" indent="0"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36480" y="1438200"/>
            <a:ext cx="8632800" cy="1774800"/>
          </a:xfrm>
          <a:prstGeom prst="rect">
            <a:avLst/>
          </a:prstGeom>
          <a:solidFill>
            <a:srgbClr val="ffffff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86760" rIns="86760" tIns="273600" bIns="273600" anchor="ctr">
            <a:noAutofit/>
          </a:bodyPr>
          <a:p>
            <a:pPr marL="820800" indent="0" algn="ctr">
              <a:lnSpc>
                <a:spcPct val="93000"/>
              </a:lnSpc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04840" indent="0" algn="ct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409680" algn="ctr">
              <a:lnSpc>
                <a:spcPct val="93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61596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820800" algn="ctr">
              <a:lnSpc>
                <a:spcPct val="93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82080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82080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7830"/>
            </a:gs>
            <a:gs pos="100000">
              <a:srgbClr val="0d482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6480" y="1141200"/>
            <a:ext cx="8632800" cy="2369880"/>
          </a:xfrm>
          <a:prstGeom prst="rect">
            <a:avLst/>
          </a:prstGeom>
          <a:solidFill>
            <a:srgbClr val="ffffff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86760" rIns="86760" tIns="273600" bIns="273600" anchor="ctr">
            <a:noAutofit/>
          </a:bodyPr>
          <a:p>
            <a:pPr marL="820800" indent="0" algn="ctr">
              <a:lnSpc>
                <a:spcPct val="93000"/>
              </a:lnSpc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GMOD Chado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to a Model-View-Controller (MVC) architecture?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404800" y="3755520"/>
            <a:ext cx="6933960" cy="2156040"/>
          </a:xfrm>
          <a:prstGeom prst="rect">
            <a:avLst/>
          </a:prstGeom>
          <a:solidFill>
            <a:srgbClr val="f0ffba">
              <a:alpha val="50000"/>
            </a:srgbClr>
          </a:solidFill>
          <a:ln w="9360">
            <a:solidFill>
              <a:srgbClr val="000000"/>
            </a:solidFill>
            <a:prstDash val="lgDash"/>
            <a:miter/>
          </a:ln>
        </p:spPr>
        <p:txBody>
          <a:bodyPr lIns="86760" rIns="86760" tIns="43560" bIns="43560" anchor="b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Valentin GUIGN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ID, DAP, BI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IRAD Montpelli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dular: an external module will authenticate us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QL Queries will be parsed and modif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me queries may be den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sed on CHADO Audit “modul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3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134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135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3. Conclusion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 fontScale="97000"/>
          </a:bodyPr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new communication protocol must be set up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apped using HTTP(S), similar to SQL synta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quires client side-modificatio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Apollo, Artemis, GBrowse …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ably a kind of Java DB driver just like the current o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s solution should be submitted to the GMOD commun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856840" y="2514600"/>
            <a:ext cx="3389760" cy="182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nnotator_feature_ac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ature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nnotato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ess_level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0560" y="1208160"/>
            <a:ext cx="3609720" cy="471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nnota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varchar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registr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last_logi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last_t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_login_cou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ny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lags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3440" y="4802040"/>
            <a:ext cx="3114720" cy="1341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Feature (from Chado DB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ature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86080" y="5127480"/>
            <a:ext cx="275904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user_group_lin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roup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3440" y="358920"/>
            <a:ext cx="3397320" cy="25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user_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_ke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1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expir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ess_que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537840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User Databas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3" idx="0"/>
            <a:endCxn id="181" idx="2"/>
          </p:cNvCxnSpPr>
          <p:nvPr/>
        </p:nvCxnSpPr>
        <p:spPr>
          <a:xfrm flipV="1">
            <a:off x="2865240" y="4592160"/>
            <a:ext cx="1080" cy="535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7" name=""/>
          <p:cNvCxnSpPr>
            <a:stCxn id="180" idx="1"/>
            <a:endCxn id="181" idx="3"/>
          </p:cNvCxnSpPr>
          <p:nvPr/>
        </p:nvCxnSpPr>
        <p:spPr>
          <a:xfrm flipH="1" flipV="1">
            <a:off x="4669560" y="2899800"/>
            <a:ext cx="1343880" cy="495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8" name=""/>
          <p:cNvCxnSpPr>
            <a:stCxn id="182" idx="0"/>
            <a:endCxn id="180" idx="2"/>
          </p:cNvCxnSpPr>
          <p:nvPr/>
        </p:nvCxnSpPr>
        <p:spPr>
          <a:xfrm flipH="1" flipV="1">
            <a:off x="7551000" y="4274640"/>
            <a:ext cx="19800" cy="52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9" name=""/>
          <p:cNvCxnSpPr>
            <a:stCxn id="184" idx="1"/>
            <a:endCxn id="181" idx="3"/>
          </p:cNvCxnSpPr>
          <p:nvPr/>
        </p:nvCxnSpPr>
        <p:spPr>
          <a:xfrm flipH="1">
            <a:off x="4669560" y="1355400"/>
            <a:ext cx="1343880" cy="154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sp>
        <p:nvSpPr>
          <p:cNvPr id="190" name=""/>
          <p:cNvSpPr/>
          <p:nvPr/>
        </p:nvSpPr>
        <p:spPr>
          <a:xfrm>
            <a:off x="7644240" y="427824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9000" y="460368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7320" y="31021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49280" y="45385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47320" y="21877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03560" y="349416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73960" y="486576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03560" y="107784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226200" y="133992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MOD Control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7960" y="4408560"/>
            <a:ext cx="247788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26200" y="349416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03480" y="1141560"/>
            <a:ext cx="990360" cy="1503360"/>
            <a:chOff x="1203480" y="1141560"/>
            <a:chExt cx="990360" cy="1503360"/>
          </a:xfrm>
        </p:grpSpPr>
        <p:sp>
          <p:nvSpPr>
            <p:cNvPr id="202" name=""/>
            <p:cNvSpPr/>
            <p:nvPr/>
          </p:nvSpPr>
          <p:spPr>
            <a:xfrm>
              <a:off x="1203480" y="1141560"/>
              <a:ext cx="990360" cy="15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1486440" y="1337400"/>
              <a:ext cx="424080" cy="1112040"/>
              <a:chOff x="1486440" y="1337400"/>
              <a:chExt cx="424080" cy="1112040"/>
            </a:xfrm>
          </p:grpSpPr>
          <p:sp>
            <p:nvSpPr>
              <p:cNvPr id="204" name=""/>
              <p:cNvSpPr/>
              <p:nvPr/>
            </p:nvSpPr>
            <p:spPr>
              <a:xfrm>
                <a:off x="1557000" y="1337400"/>
                <a:ext cx="282240" cy="26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8840" y="1599480"/>
                <a:ext cx="0" cy="39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1486440" y="1991520"/>
                <a:ext cx="21204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1698840" y="1991520"/>
                <a:ext cx="1404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148644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169848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10" name=""/>
          <p:cNvCxnSpPr>
            <a:stCxn id="202" idx="3"/>
            <a:endCxn id="198" idx="1"/>
          </p:cNvCxnSpPr>
          <p:nvPr/>
        </p:nvCxnSpPr>
        <p:spPr>
          <a:xfrm>
            <a:off x="2193480" y="1893960"/>
            <a:ext cx="4033080" cy="21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1" name=""/>
          <p:cNvCxnSpPr>
            <a:stCxn id="198" idx="2"/>
            <a:endCxn id="200" idx="0"/>
          </p:cNvCxnSpPr>
          <p:nvPr/>
        </p:nvCxnSpPr>
        <p:spPr>
          <a:xfrm>
            <a:off x="7464240" y="2449440"/>
            <a:ext cx="108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2" name=""/>
          <p:cNvCxnSpPr>
            <a:stCxn id="200" idx="1"/>
            <a:endCxn id="199" idx="3"/>
          </p:cNvCxnSpPr>
          <p:nvPr/>
        </p:nvCxnSpPr>
        <p:spPr>
          <a:xfrm flipH="1">
            <a:off x="3255120" y="4049640"/>
            <a:ext cx="2971080" cy="9151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3" name=""/>
          <p:cNvCxnSpPr>
            <a:stCxn id="199" idx="3"/>
            <a:endCxn id="200" idx="1"/>
          </p:cNvCxnSpPr>
          <p:nvPr/>
        </p:nvCxnSpPr>
        <p:spPr>
          <a:xfrm flipV="1">
            <a:off x="3255480" y="4049280"/>
            <a:ext cx="2971080" cy="9151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4" name=""/>
          <p:cNvCxnSpPr>
            <a:stCxn id="200" idx="0"/>
            <a:endCxn id="198" idx="2"/>
          </p:cNvCxnSpPr>
          <p:nvPr/>
        </p:nvCxnSpPr>
        <p:spPr>
          <a:xfrm flipV="1">
            <a:off x="7464240" y="2449080"/>
            <a:ext cx="108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5" name=""/>
          <p:cNvCxnSpPr>
            <a:stCxn id="198" idx="1"/>
            <a:endCxn id="202" idx="3"/>
          </p:cNvCxnSpPr>
          <p:nvPr/>
        </p:nvCxnSpPr>
        <p:spPr>
          <a:xfrm flipH="1" flipV="1">
            <a:off x="2193120" y="1893600"/>
            <a:ext cx="4033080" cy="21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16" name=""/>
          <p:cNvSpPr/>
          <p:nvPr/>
        </p:nvSpPr>
        <p:spPr>
          <a:xfrm>
            <a:off x="2596680" y="1535040"/>
            <a:ext cx="2774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+ Password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HTT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01760" y="2644920"/>
            <a:ext cx="18478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+ Passwor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ule C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93680" y="4802040"/>
            <a:ext cx="231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user data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SQ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49640" y="4148280"/>
            <a:ext cx="93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4440" y="4670280"/>
            <a:ext cx="219960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unt status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failures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assword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trieve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reate 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40960" y="2709720"/>
            <a:ext cx="2842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ID +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: Error code + mess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02080" y="1992240"/>
            <a:ext cx="2842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ID +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: Error code + mess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Authentication Proces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18080" y="2654280"/>
            <a:ext cx="43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032360" y="2254320"/>
            <a:ext cx="247788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MOD Control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203480" y="1141560"/>
            <a:ext cx="990360" cy="1503360"/>
            <a:chOff x="1203480" y="1141560"/>
            <a:chExt cx="990360" cy="1503360"/>
          </a:xfrm>
        </p:grpSpPr>
        <p:sp>
          <p:nvSpPr>
            <p:cNvPr id="227" name=""/>
            <p:cNvSpPr/>
            <p:nvPr/>
          </p:nvSpPr>
          <p:spPr>
            <a:xfrm>
              <a:off x="1203480" y="1141560"/>
              <a:ext cx="990360" cy="15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486440" y="1337400"/>
              <a:ext cx="424080" cy="1112040"/>
              <a:chOff x="1486440" y="1337400"/>
              <a:chExt cx="424080" cy="1112040"/>
            </a:xfrm>
          </p:grpSpPr>
          <p:sp>
            <p:nvSpPr>
              <p:cNvPr id="229" name=""/>
              <p:cNvSpPr/>
              <p:nvPr/>
            </p:nvSpPr>
            <p:spPr>
              <a:xfrm>
                <a:off x="1557000" y="1337400"/>
                <a:ext cx="282240" cy="26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698840" y="1599480"/>
                <a:ext cx="0" cy="39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1486440" y="1991520"/>
                <a:ext cx="21204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1698840" y="1991520"/>
                <a:ext cx="1404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48644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169848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35" name=""/>
          <p:cNvCxnSpPr>
            <a:stCxn id="227" idx="3"/>
            <a:endCxn id="225" idx="1"/>
          </p:cNvCxnSpPr>
          <p:nvPr/>
        </p:nvCxnSpPr>
        <p:spPr>
          <a:xfrm>
            <a:off x="2193480" y="1893960"/>
            <a:ext cx="1839240" cy="9165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36" name=""/>
          <p:cNvCxnSpPr>
            <a:stCxn id="225" idx="2"/>
            <a:endCxn id="237" idx="0"/>
          </p:cNvCxnSpPr>
          <p:nvPr/>
        </p:nvCxnSpPr>
        <p:spPr>
          <a:xfrm>
            <a:off x="5272200" y="3363480"/>
            <a:ext cx="2193120" cy="98028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Query Proces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00640" y="1860480"/>
            <a:ext cx="2928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 ID + Query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HTT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26200" y="434340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34720" y="3560760"/>
            <a:ext cx="133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tch 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02680" y="3886200"/>
            <a:ext cx="1683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da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06440" y="2449440"/>
            <a:ext cx="161280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ify qu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udit (optiona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440856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37" idx="0"/>
            <a:endCxn id="225" idx="2"/>
          </p:cNvCxnSpPr>
          <p:nvPr/>
        </p:nvCxnSpPr>
        <p:spPr>
          <a:xfrm flipH="1" flipV="1">
            <a:off x="5271840" y="3363120"/>
            <a:ext cx="2193120" cy="98028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45" name=""/>
          <p:cNvCxnSpPr>
            <a:stCxn id="225" idx="2"/>
            <a:endCxn id="243" idx="0"/>
          </p:cNvCxnSpPr>
          <p:nvPr/>
        </p:nvCxnSpPr>
        <p:spPr>
          <a:xfrm flipH="1">
            <a:off x="2441160" y="3363840"/>
            <a:ext cx="283104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46" name=""/>
          <p:cNvSpPr/>
          <p:nvPr/>
        </p:nvSpPr>
        <p:spPr>
          <a:xfrm>
            <a:off x="4056840" y="3886200"/>
            <a:ext cx="127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ubmit qu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72560" y="3560760"/>
            <a:ext cx="1285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3" idx="0"/>
            <a:endCxn id="225" idx="2"/>
          </p:cNvCxnSpPr>
          <p:nvPr/>
        </p:nvCxnSpPr>
        <p:spPr>
          <a:xfrm flipV="1">
            <a:off x="2441160" y="3363480"/>
            <a:ext cx="283104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49" name=""/>
          <p:cNvCxnSpPr>
            <a:stCxn id="225" idx="1"/>
            <a:endCxn id="227" idx="3"/>
          </p:cNvCxnSpPr>
          <p:nvPr/>
        </p:nvCxnSpPr>
        <p:spPr>
          <a:xfrm flipH="1" flipV="1">
            <a:off x="2193120" y="1893600"/>
            <a:ext cx="1839240" cy="9165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50" name=""/>
          <p:cNvSpPr/>
          <p:nvPr/>
        </p:nvSpPr>
        <p:spPr>
          <a:xfrm>
            <a:off x="2218680" y="2644920"/>
            <a:ext cx="1285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46800" y="2122560"/>
            <a:ext cx="43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313000" y="3036960"/>
            <a:ext cx="5886000" cy="2286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Modified Quer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SELECT … FROM … feature 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WHERE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AND f.feature_id IN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SELECT fa.feature_id FROM feature_access f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WHERE fa.annotator_id IN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'UserID', 'Group1ID', 'Group2ID',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AND fa.access &gt;=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) …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59360" y="1730520"/>
            <a:ext cx="3507480" cy="8596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Source quer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LECT … FROM … feature 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WHERE … …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Query Modification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11760" y="4343400"/>
            <a:ext cx="3397320" cy="260280"/>
          </a:xfrm>
          <a:prstGeom prst="rect">
            <a:avLst/>
          </a:prstGeom>
          <a:noFill/>
          <a:ln w="28440">
            <a:solidFill>
              <a:srgbClr val="004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438960" y="2774520"/>
            <a:ext cx="919080" cy="1568520"/>
          </a:xfrm>
          <a:prstGeom prst="line">
            <a:avLst/>
          </a:prstGeom>
          <a:ln w="28440">
            <a:solidFill>
              <a:srgbClr val="004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67320" y="1927080"/>
            <a:ext cx="3157560" cy="85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tored in </a:t>
            </a:r>
            <a:r>
              <a:rPr b="1" i="1" lang="fr-FR" sz="1700" spc="-1" strike="noStrike">
                <a:solidFill>
                  <a:srgbClr val="000000"/>
                </a:solidFill>
                <a:latin typeface="Arial"/>
              </a:rPr>
              <a:t>user_session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able </a:t>
            </a:r>
            <a:r>
              <a:rPr b="1" i="1" lang="fr-FR" sz="1700" spc="-1" strike="noStrike">
                <a:solidFill>
                  <a:srgbClr val="000000"/>
                </a:solidFill>
                <a:latin typeface="Arial"/>
              </a:rPr>
              <a:t>access_que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(set at session creation tim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9000"/>
            <a:ext cx="891540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3440160"/>
                <a:tab algn="l" pos="4127400"/>
                <a:tab algn="l" pos="4813200"/>
                <a:tab algn="l" pos="5504040"/>
                <a:tab algn="l" pos="6191280"/>
                <a:tab algn="l" pos="6875640"/>
                <a:tab algn="l" pos="7564320"/>
                <a:tab algn="l" pos="825516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7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1. Introduction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urrent Issue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Architectu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s have direct access to the data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44600" y="2579760"/>
            <a:ext cx="2122560" cy="22842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4200"/>
              <a:gd name="textAreaBottom" fmla="*/ 2283840 h 2284200"/>
            </a:gdLst>
            <a:ahLst/>
            <a:rect l="textAreaLeft" t="textAreaTop" r="textAreaRight" b="textAreaBottom"/>
            <a:pathLst>
              <a:path w="21600" h="23245">
                <a:moveTo>
                  <a:pt x="15" y="0"/>
                </a:moveTo>
                <a:arcTo wR="15" hR="15" stAng="16200000" swAng="-5400000"/>
                <a:lnTo>
                  <a:pt x="0" y="23230"/>
                </a:lnTo>
                <a:arcTo wR="15" hR="15" stAng="10800000" swAng="-5400000"/>
                <a:lnTo>
                  <a:pt x="21585" y="23245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DO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2579760"/>
            <a:ext cx="2122560" cy="22842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4200"/>
              <a:gd name="textAreaBottom" fmla="*/ 2283840 h 2284200"/>
            </a:gdLst>
            <a:ahLst/>
            <a:rect l="textAreaLeft" t="textAreaTop" r="textAreaRight" b="textAreaBottom"/>
            <a:pathLst>
              <a:path w="21600" h="23245">
                <a:moveTo>
                  <a:pt x="15" y="0"/>
                </a:moveTo>
                <a:arcTo wR="15" hR="15" stAng="16200000" swAng="-5400000"/>
                <a:lnTo>
                  <a:pt x="0" y="23230"/>
                </a:lnTo>
                <a:arcTo wR="15" hR="15" stAng="10800000" swAng="-5400000"/>
                <a:lnTo>
                  <a:pt x="21585" y="23245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iews: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3"/>
            <a:endCxn id="151" idx="1"/>
          </p:cNvCxnSpPr>
          <p:nvPr/>
        </p:nvCxnSpPr>
        <p:spPr>
          <a:xfrm>
            <a:off x="3466800" y="3722400"/>
            <a:ext cx="2477160" cy="108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1.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 Introduction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urrent Issue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ssu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(DB): R or R/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ition hi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urrent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4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8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9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52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53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1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MVC Architectur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V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Model-View-Controller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T.Reenskaug,1979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data stored + the read/write meth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PostgreSQL or MySQL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CHADO part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user inter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GBrowse, Apollo, Artemis,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roll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handles user actions →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missing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8120" y="2122560"/>
            <a:ext cx="2124000" cy="2286000"/>
          </a:xfrm>
          <a:custGeom>
            <a:avLst/>
            <a:gdLst>
              <a:gd name="textAreaLeft" fmla="*/ 360 w 2124000"/>
              <a:gd name="textAreaRight" fmla="*/ 2123640 w 212400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47">
                <a:moveTo>
                  <a:pt x="15" y="0"/>
                </a:moveTo>
                <a:arcTo wR="15" hR="15" stAng="16200000" swAng="-5400000"/>
                <a:lnTo>
                  <a:pt x="0" y="23232"/>
                </a:lnTo>
                <a:arcTo wR="15" hR="15" stAng="10800000" swAng="-5400000"/>
                <a:lnTo>
                  <a:pt x="21585" y="2324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DO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74000" y="2122560"/>
            <a:ext cx="2124000" cy="2286000"/>
          </a:xfrm>
          <a:custGeom>
            <a:avLst/>
            <a:gdLst>
              <a:gd name="textAreaLeft" fmla="*/ 360 w 2124000"/>
              <a:gd name="textAreaRight" fmla="*/ 2123640 w 212400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47">
                <a:moveTo>
                  <a:pt x="15" y="0"/>
                </a:moveTo>
                <a:arcTo wR="15" hR="15" stAng="16200000" swAng="-5400000"/>
                <a:lnTo>
                  <a:pt x="0" y="23232"/>
                </a:lnTo>
                <a:arcTo wR="15" hR="15" stAng="10800000" swAng="-5400000"/>
                <a:lnTo>
                  <a:pt x="21585" y="2324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iew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61" idx="3"/>
            <a:endCxn id="164" idx="1"/>
          </p:cNvCxnSpPr>
          <p:nvPr/>
        </p:nvCxnSpPr>
        <p:spPr>
          <a:xfrm flipV="1">
            <a:off x="2832120" y="3253680"/>
            <a:ext cx="1070640" cy="1188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  <p:sp>
        <p:nvSpPr>
          <p:cNvPr id="164" name=""/>
          <p:cNvSpPr/>
          <p:nvPr/>
        </p:nvSpPr>
        <p:spPr>
          <a:xfrm>
            <a:off x="3902040" y="2111400"/>
            <a:ext cx="2122560" cy="22860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63">
                <a:moveTo>
                  <a:pt x="15" y="0"/>
                </a:moveTo>
                <a:arcTo wR="15" hR="15" stAng="16200000" swAng="-5400000"/>
                <a:lnTo>
                  <a:pt x="0" y="23248"/>
                </a:lnTo>
                <a:arcTo wR="15" hR="15" stAng="10800000" swAng="-5400000"/>
                <a:lnTo>
                  <a:pt x="21585" y="2326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troller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 layer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s web servi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4" idx="3"/>
          </p:cNvCxnSpPr>
          <p:nvPr/>
        </p:nvCxnSpPr>
        <p:spPr>
          <a:xfrm>
            <a:off x="6024600" y="3254040"/>
            <a:ext cx="1070640" cy="1332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ask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check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queries contro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ntegrity checker” / “annotation inspector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ternal DB access will be clos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ocol will include version che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entin GUIGNON</dc:creator>
  <dc:description/>
  <dc:language>en-US</dc:language>
  <cp:lastModifiedBy>sidibe-bocs</cp:lastModifiedBy>
  <dcterms:modified xsi:type="dcterms:W3CDTF">2009-01-30T17:55:23Z</dcterms:modified>
  <cp:revision>58</cp:revision>
  <dc:subject/>
  <dc:title>GMOD Chado: to a Model-View-Controller (MVC) architecture?</dc:title>
</cp:coreProperties>
</file>